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E3C-6178-4E2B-A5B3-BF59C0FC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B39-2B60-48F1-9AA8-BD383CD7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63C-C918-4AEA-9434-226816A5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69B-DA9B-4AAA-87B2-C2D2F140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B69-FD46-4B7E-8468-E3D7BF9E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422-9484-4B5F-858E-B1BD6F6C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5ED-3EA2-45C2-B0E4-2223EA8C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D4C-16DD-4735-B093-418850EF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5CA-1589-443A-9387-5329F57D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CE8-0D0E-44F3-BE75-1600EA3B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C46-545D-428F-BA83-15C1E10A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C7E-51A6-4D4B-9876-62576FD3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3DB1-24B7-466A-A7F1-754E745E4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 of the 1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with France and England in the 1670’s hurt the United Provi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V – abdicates to son Phi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with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into a northern union and the Spanish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Independence from Spain in 1848 (Peace of Westphal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The Dutch republic, known as the United Provinces of the Netherlands, won its independence from Spain – as confirmed by the Peace of Westphalia in 18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utch achievements in Science, art, and literature were exceptional – a “golden 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Power in the republic resided in local E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The republic was 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ederation: a weak union o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provi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The republic was based o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ues of thrift, frugality, an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igious toleration, including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for J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Religious tolera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tered economic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The fishing industry was the cornerstone of the Dutch economy – stimulating shipbuilding, an huge merchant marine, and other indu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Dutch East India Company was formed in 1602; it cut heavily into Portuguese trading in Ea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The Dutch West India company, founded in 1621, traded extensively in Latin America and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Wages were high for all and most people ate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3:11:11Z</dcterms:created>
  <dc:creator>umsd</dc:creator>
  <dc:description/>
  <dc:language>en-US</dc:language>
  <cp:lastModifiedBy>umsd</cp:lastModifiedBy>
  <dcterms:modified xsi:type="dcterms:W3CDTF">2008-12-02T13:26:49Z</dcterms:modified>
  <cp:revision>3</cp:revision>
  <dc:subject/>
  <dc:title>The Dutch Republic of the 17th Century</dc:title>
</cp:coreProperties>
</file>